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22.jpeg" ContentType="image/jpeg"/>
  <Override PartName="/ppt/media/image7.png" ContentType="image/png"/>
  <Override PartName="/ppt/media/image9.wmf" ContentType="image/x-wmf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17.wmf" ContentType="image/x-wmf"/>
  <Override PartName="/ppt/media/image18.jpeg" ContentType="image/jpeg"/>
  <Override PartName="/ppt/media/image19.wmf" ContentType="image/x-wmf"/>
  <Override PartName="/ppt/media/image20.jpeg" ContentType="image/jpeg"/>
  <Override PartName="/ppt/media/image21.jpeg" ContentType="image/jpeg"/>
  <Override PartName="/ppt/media/image25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0ED-48F5-485E-A9B2-384F5236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DA8-CAD9-4450-8E83-753AA297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570-F73B-4D72-8069-D8248D12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785-325A-469F-BB1F-18BFDE4C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79ED-5259-457B-8CF0-40C5E043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8C47-3B84-4FE3-ADF5-98391952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7139-B1A0-4428-8F29-11469C1B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864C-D48A-4EC3-8A5E-4A2C2338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BABA-7F0F-4BE7-89F4-3B05C327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615D-31FF-4508-9660-6D53BCEF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8329-18AF-49B2-8A0D-1507041D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B2D-F984-415D-B5C2-AAB824C3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0B6D-CFBA-4658-87CE-F51FE0C4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A094-7CA6-448A-9698-C6D0BC68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E6D7-F13D-4CAC-943B-2544E82B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5A30-EFB8-445A-9873-3C1816E3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AEF8-279E-4A52-9891-5CD6226D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BEE1E-0CE4-4861-9A61-1D4F9EE7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347E-19B0-4373-8CFF-FE94DBB5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0694D-70BB-4CBB-8705-1FB68FC0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4AB6-79BA-48B7-BEB6-ED290A8D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7D66-724B-4561-B202-837C027B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20E-F93F-492C-AAFF-F72051CD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91681-6A72-4A74-ACEE-7CB37A21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38080-88D8-48B0-9F12-91199934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FA026-63ED-4C7B-AACE-05121553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7B48-7281-43D6-BD1D-7FC347DE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B023-BD6A-4F9F-B71F-1C8D9ABB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35D3A-ABB1-4E13-80AC-25B4CE3C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61DDE-4E2D-49B6-ABEE-A182F3D0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4CC74-1FA4-47B7-AD25-3F507CA7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5D2C5-6765-45D9-8C66-BFCC64CB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7DE4D-CE9A-417F-AFC9-EADEE975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F82-6C39-4FE6-A549-5A926C3E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9BF4E-B4B9-4A83-8EE8-E5420792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81CE7-94E6-4DA7-A415-1CD36AF0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48C10-5CFD-4645-B7D2-802DED01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180B5-975F-4282-8673-3CFE76AE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E229F-EA1F-487B-8656-561864B1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11959-0C4F-441C-B43F-6A70AE41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FD95-7DD5-46E9-856B-64A101BD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6ABCB-35DA-4830-945F-9B12B945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20DB-1A6F-4E64-B8CE-83A26AA0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88F-C54A-404E-8862-65026007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1FC-A596-4FAD-8A2C-35CFA92B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4DD-77EF-493B-AEF3-EDA1944A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896-DFE8-45DD-88C1-C7A5393F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831-6718-401F-BB46-BD824C35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6965-01A9-4A4D-8BA3-932F0823EE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60CD-FC2A-4DEE-B489-F75C8CF9FB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5C5C-ED38-46B0-A7E6-1F8DDA0344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D914-162D-4930-8FA7-40DB87FFC2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00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3933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Главное  архивное управлени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осковской обл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58ed5"/>
                </a:solidFill>
                <a:uFillTx/>
                <a:latin typeface="Calibri"/>
              </a:rPr>
              <a:t>Тематические каталоги ЦГАМО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28400" y="164268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Calibri"/>
              </a:rPr>
              <a:t>Именной каталог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Calibri"/>
              </a:rPr>
              <a:t>Именная картотека к фонду Московского губернского отдела ЗАГ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Calibri"/>
              </a:rPr>
              <a:t>Картотека по истории административно-территориального деления Московской обла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Calibri"/>
              </a:rPr>
              <a:t>Личный состав истребительных батальонов УНКВД Московской обла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Calibri"/>
              </a:rPr>
              <a:t>Ветеран труда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Calibri"/>
              </a:rPr>
              <a:t>Указате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14200" y="142848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Calibri"/>
              </a:rPr>
              <a:t>Указатель по фондам Мособлисполкома и Администрации Московской области о закрытии церковных учреждений Московской области и возвращении их Патриархии  в 1990-х гг.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Calibri"/>
              </a:rPr>
              <a:t>Указатель по документам органов власти Московской области «Развитие коллективного садоводства и огородничества в Московской области в 1917 – 1998 гг.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4" descr="IMAGE0017.JPG"/>
          <p:cNvPicPr/>
          <p:nvPr/>
        </p:nvPicPr>
        <p:blipFill>
          <a:blip r:embed="rId2"/>
          <a:stretch/>
        </p:blipFill>
        <p:spPr>
          <a:xfrm>
            <a:off x="228600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3" descr="IMAGE0016.JPG"/>
          <p:cNvPicPr/>
          <p:nvPr/>
        </p:nvPicPr>
        <p:blipFill>
          <a:blip r:embed="rId2"/>
          <a:stretch/>
        </p:blipFill>
        <p:spPr>
          <a:xfrm>
            <a:off x="2214720" y="0"/>
            <a:ext cx="4875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://gau.mosreg.ru/userdata/spra.JPG"/>
          <p:cNvPicPr/>
          <p:nvPr/>
        </p:nvPicPr>
        <p:blipFill>
          <a:blip r:embed="rId2"/>
          <a:stretch/>
        </p:blipFill>
        <p:spPr>
          <a:xfrm>
            <a:off x="785880" y="500040"/>
            <a:ext cx="76438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114480" y="2495520"/>
          <a:ext cx="8791560" cy="338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2495520"/>
                    <a:ext cx="879156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6"/>
          <p:cNvSpPr/>
          <p:nvPr/>
        </p:nvSpPr>
        <p:spPr>
          <a:xfrm>
            <a:off x="1908000" y="332280"/>
            <a:ext cx="56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мпьютерный парк архив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осков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иси архивных документов в электронном вид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Object 2"/>
          <p:cNvGraphicFramePr/>
          <p:nvPr/>
        </p:nvGraphicFramePr>
        <p:xfrm>
          <a:off x="50760" y="2200320"/>
          <a:ext cx="9029880" cy="40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0" y="2200320"/>
                    <a:ext cx="902988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3" descr="СИЭК.JPG"/>
          <p:cNvPicPr/>
          <p:nvPr/>
        </p:nvPicPr>
        <p:blipFill>
          <a:blip r:embed="rId1"/>
          <a:stretch/>
        </p:blipFill>
        <p:spPr>
          <a:xfrm>
            <a:off x="0" y="0"/>
            <a:ext cx="5715000" cy="45720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4" descr="СИЭК1.JPG"/>
          <p:cNvPicPr/>
          <p:nvPr/>
        </p:nvPicPr>
        <p:blipFill>
          <a:blip r:embed="rId2"/>
          <a:stretch/>
        </p:blipFill>
        <p:spPr>
          <a:xfrm>
            <a:off x="3340080" y="2214720"/>
            <a:ext cx="580392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User\Documents\сайт фото\2011-04-08\0002.JPG"/>
          <p:cNvPicPr/>
          <p:nvPr/>
        </p:nvPicPr>
        <p:blipFill>
          <a:blip r:embed="rId1"/>
          <a:srcRect l="0" t="0" r="0" b="-5047"/>
          <a:stretch/>
        </p:blipFill>
        <p:spPr>
          <a:xfrm>
            <a:off x="214200" y="285840"/>
            <a:ext cx="8715600" cy="6572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d9d9d9">
                <a:alpha val="40000"/>
              </a:srgbClr>
            </a:outerShdw>
          </a:effectLst>
        </p:spPr>
      </p:pic>
      <p:sp>
        <p:nvSpPr>
          <p:cNvPr id="228" name="Rectangle 3"/>
          <p:cNvSpPr/>
          <p:nvPr/>
        </p:nvSpPr>
        <p:spPr>
          <a:xfrm>
            <a:off x="1428840" y="2541240"/>
            <a:ext cx="7715160" cy="42757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d1c39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БЛИЦЕНЗИОННЫЙ ДОГОВОР 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 предоставлении неисключительных имущественных прав на исполь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ного комплекса «Архивный фонд» (4-я версия) (ПК АФ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. Москв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«_____»________________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ое архивное управление Московской обла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 лице начальника Петрова Петра Михайловича, действующего на основании Положения, именуемое в дальнейше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ицензи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с одной стороны,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 лице ________________________________________________________________, действующего на основании _____________, именуемое в дальнейше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ублицензи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с другой стороны, заключили настоящий договор о нижеследующем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Основные понятия, применяемые в настоящем догово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ицензиа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- Федеральное архивное агентство - обладатель исключительного права на программный комплекс «Архивный фонд» (4-я версия) (ПК АФ4), имеющий правомочия на передачу прав пользования программой по лицензионному договору на основании свидетельств и иных правоустанавливающи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ицензиа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лицо, которому обладателем исключительного права на программу предоставляется право использования программы для ЭВМ на условиях, предусмотренных лицензионным догов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ублицензиа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лицо, которому Лицензиатом, с согласия Лицензиара, предоставляется право использования программы для ЭВМ на условиях, предусмотренных сублицензионным догов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ицензионный догов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- заключенный в письменной форме договор, содержащ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личество фондов введенных в ПК «Архивный фонд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" name="Object 2"/>
          <p:cNvGraphicFramePr/>
          <p:nvPr/>
        </p:nvGraphicFramePr>
        <p:xfrm>
          <a:off x="54000" y="2211480"/>
          <a:ext cx="9007560" cy="405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00" y="2211480"/>
                    <a:ext cx="900756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2884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остояние и перспективы развития научно-справочного аппа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 документам Архивного фонда Москов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43"/>
          <p:cNvPicPr/>
          <p:nvPr/>
        </p:nvPicPr>
        <p:blipFill>
          <a:blip r:embed="rId1"/>
          <a:stretch/>
        </p:blipFill>
        <p:spPr>
          <a:xfrm>
            <a:off x="0" y="0"/>
            <a:ext cx="564984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651280" y="-360"/>
            <a:ext cx="3492360" cy="3933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Times New Roman"/>
              </a:rPr>
              <a:t>Сайт Главного архивного управления Московской област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Object 2"/>
          <p:cNvGraphicFramePr/>
          <p:nvPr/>
        </p:nvGraphicFramePr>
        <p:xfrm>
          <a:off x="3524400" y="3905280"/>
          <a:ext cx="56196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4400" y="3905280"/>
                    <a:ext cx="56196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7"/>
          <p:cNvSpPr/>
          <p:nvPr/>
        </p:nvSpPr>
        <p:spPr>
          <a:xfrm>
            <a:off x="3708360" y="646128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"/>
              </a:rPr>
              <a:t>Количество обращений к сай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002 Люберцы"/>
          <p:cNvPicPr/>
          <p:nvPr/>
        </p:nvPicPr>
        <p:blipFill>
          <a:blip r:embed="rId1"/>
          <a:stretch/>
        </p:blipFill>
        <p:spPr>
          <a:xfrm>
            <a:off x="0" y="0"/>
            <a:ext cx="7093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007-Раменское"/>
          <p:cNvPicPr/>
          <p:nvPr/>
        </p:nvPicPr>
        <p:blipFill>
          <a:blip r:embed="rId1"/>
          <a:stretch/>
        </p:blipFill>
        <p:spPr>
          <a:xfrm>
            <a:off x="468360" y="620640"/>
            <a:ext cx="77040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002 Люберцы"/>
          <p:cNvPicPr/>
          <p:nvPr/>
        </p:nvPicPr>
        <p:blipFill>
          <a:blip r:embed="rId1"/>
          <a:stretch/>
        </p:blipFill>
        <p:spPr>
          <a:xfrm>
            <a:off x="0" y="0"/>
            <a:ext cx="7093080" cy="5791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007-Раменское"/>
          <p:cNvPicPr/>
          <p:nvPr/>
        </p:nvPicPr>
        <p:blipFill>
          <a:blip r:embed="rId2"/>
          <a:stretch/>
        </p:blipFill>
        <p:spPr>
          <a:xfrm>
            <a:off x="468360" y="620640"/>
            <a:ext cx="7704000" cy="6213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006-Нара"/>
          <p:cNvPicPr/>
          <p:nvPr/>
        </p:nvPicPr>
        <p:blipFill>
          <a:blip r:embed="rId3"/>
          <a:stretch/>
        </p:blipFill>
        <p:spPr>
          <a:xfrm>
            <a:off x="826920" y="1368360"/>
            <a:ext cx="8317080" cy="54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85840"/>
            <a:ext cx="810108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спективы развития научно-справочного аппарата к документам Архивного фонда Московской област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13880" y="2357280"/>
            <a:ext cx="78584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епенное снижение доли работы с традиционными архивными справочниками при планировании работы архивов Московской области (дифференцированный подход при переработке описей дел только в случаях определения целесообразности переработки описи) и увеличение доли работы с автоматизированным Н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объемов оцифровки традиционного НСА и  архивных документов, включая ретроконверсию сканируемого матери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642960" y="2857680"/>
            <a:ext cx="7416720" cy="7642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93c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fcfc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f6c4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Объект 17"/>
          <p:cNvGraphicFramePr/>
          <p:nvPr/>
        </p:nvGraphicFramePr>
        <p:xfrm>
          <a:off x="0" y="907920"/>
          <a:ext cx="6804000" cy="30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Объект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680400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7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3"/>
          <p:cNvGraphicFramePr/>
          <p:nvPr/>
        </p:nvGraphicFramePr>
        <p:xfrm>
          <a:off x="1681200" y="3860640"/>
          <a:ext cx="7462800" cy="2681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1200" y="3860640"/>
                    <a:ext cx="746280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8"/>
          <p:cNvSpPr/>
          <p:nvPr/>
        </p:nvSpPr>
        <p:spPr>
          <a:xfrm>
            <a:off x="0" y="0"/>
            <a:ext cx="85327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ем архивного фонда Московской области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января 2011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личество архивных фондов Московской обл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Схема 3" descr=""/>
          <p:cNvPicPr/>
          <p:nvPr/>
        </p:nvPicPr>
        <p:blipFill>
          <a:blip r:embed="rId1"/>
          <a:stretch/>
        </p:blipFill>
        <p:spPr>
          <a:xfrm>
            <a:off x="407880" y="1420920"/>
            <a:ext cx="83948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3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930480" y="5357880"/>
            <a:ext cx="1343160" cy="117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 Архивных отдела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дминистраций муниципальных образова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930320" y="5357880"/>
            <a:ext cx="1455840" cy="117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муниципальных учреждения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(Наро-Фоминск, Климовск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219640" y="3392640"/>
            <a:ext cx="3529080" cy="54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илиал ГУМО «Московский областной архивный центр»  в г. Орехово-Зуе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2962440" y="1312920"/>
            <a:ext cx="3020760" cy="585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ое архив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ов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5202360" y="2352600"/>
            <a:ext cx="3471840" cy="70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Государственное учреждение Московской области «Московский областной архивный центр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384120" y="2352600"/>
            <a:ext cx="3470400" cy="70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учреждение Московской области «Центральный государственный архив Московской об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7380360" y="4076640"/>
            <a:ext cx="1485720" cy="1171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ккредитованных негосударственных организац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288120" y="5357880"/>
            <a:ext cx="1343160" cy="117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12 центров хранения документов по личному состав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216000" y="5357880"/>
            <a:ext cx="1298520" cy="117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архивных управления администраций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Егорьевсеого,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огинского и Раменского райо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2962440" y="4316400"/>
            <a:ext cx="3020760" cy="58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ниципальные арх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ов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714240" y="3429000"/>
            <a:ext cx="2797200" cy="4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иал управленческой документации в г. Моск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4527720" y="1890720"/>
            <a:ext cx="1440" cy="245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 flipH="1">
            <a:off x="2063520" y="1890720"/>
            <a:ext cx="123012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5649840" y="1890720"/>
            <a:ext cx="145440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062080" y="3044880"/>
            <a:ext cx="180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7104240" y="3044880"/>
            <a:ext cx="144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1"/>
          <p:cNvSpPr/>
          <p:nvPr/>
        </p:nvSpPr>
        <p:spPr>
          <a:xfrm flipH="1">
            <a:off x="720720" y="4546440"/>
            <a:ext cx="2238480" cy="8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 flipH="1">
            <a:off x="2467080" y="4894200"/>
            <a:ext cx="78264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5716440" y="4894200"/>
            <a:ext cx="123048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5"/>
          <p:cNvSpPr/>
          <p:nvPr/>
        </p:nvSpPr>
        <p:spPr>
          <a:xfrm>
            <a:off x="4500720" y="4929120"/>
            <a:ext cx="144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ть архивных учреждений Московской области на 1 января 2011 г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сполнение справок социально-правового характ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Объект 10"/>
          <p:cNvGraphicFramePr/>
          <p:nvPr/>
        </p:nvGraphicFramePr>
        <p:xfrm>
          <a:off x="0" y="2224080"/>
          <a:ext cx="9144000" cy="430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" name="Объект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24080"/>
                    <a:ext cx="914400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нение запросов социально-правового характер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" name="Object 2"/>
          <p:cNvGraphicFramePr/>
          <p:nvPr/>
        </p:nvGraphicFramePr>
        <p:xfrm>
          <a:off x="114480" y="1857240"/>
          <a:ext cx="9029520" cy="450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480" y="1857240"/>
                    <a:ext cx="902952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направления в развитии научно-справочного аппар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1500120" y="521496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316080" y="2714760"/>
            <a:ext cx="8613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качества  подгот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диционных архивных справоч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писи дел, путеводители по фондам, указатели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и расширение сферы примене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матизированных  архивных технолог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базы данных, архивные справочник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лектронном вид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Объект 8" descr=""/>
          <p:cNvPicPr/>
          <p:nvPr/>
        </p:nvPicPr>
        <p:blipFill>
          <a:blip r:embed="rId1"/>
          <a:stretch/>
        </p:blipFill>
        <p:spPr>
          <a:xfrm>
            <a:off x="1214280" y="2071800"/>
            <a:ext cx="7286760" cy="4000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еработка и усовершенствование описей 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1:53:25Z</dcterms:created>
  <dc:creator>Василий</dc:creator>
  <dc:description/>
  <dc:language>en-US</dc:language>
  <cp:lastModifiedBy>User</cp:lastModifiedBy>
  <dcterms:modified xsi:type="dcterms:W3CDTF">2011-06-12T13:30:04Z</dcterms:modified>
  <cp:revision>138</cp:revision>
  <dc:subject/>
  <dc:title>Расширенная коллегия Главного архивного управления  Московской области</dc:title>
</cp:coreProperties>
</file>